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CE1-60CC-4EA0-B719-64787550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F41-FB7E-47D6-9EEC-16A000AE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2DA-DF06-406E-8301-D0BBDD75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653-BF2C-485E-BE02-E1CD6A5A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674-7CC2-45F9-AE59-E94A95DF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02C-15EA-4D4C-A448-9CAE5A5A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562-1D3E-48FF-81BE-4BBEAFED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6BEB-538D-492F-8941-F5FC1135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B6B-09AF-4B89-9C23-C6EDF697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5464-18A9-4D73-8C30-4F365D59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637-4010-494A-B3FC-97AAF689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535-4FF1-4162-81D7-EF9DE1D6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B4BA-6D38-4C75-B6C6-4128F483D3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9ibyKxC_0RFUHoAoIGHBqMX;_ylu=X3oDMTBwanIybjRqBHBndANhdHdfaW1nX3Jlc3VsdARzZWMDc3I-/SIG=127ibrs64/EXP=1162236098/**http%3A//idata.over-blog.com/0/00/74/35/france-tv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9ibyJ9s_0RF4mUAyBWHBqMX;_ylu=X3oDMTBwanIybjRqBHBndANhdHdfaW1nX3Jlc3VsdARzZWMDc3I-/SIG=12d9tftbc/EXP=1162236140/**http%3A//www.stopinfos.com/images/france/media_tf1_logo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rance2.fr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rance5.fr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rte.tv/fr/70.html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images.google.fr/imgres?imgurl=http://www.mdsf.org/Television/files/page35_5.png&amp;imgrefurl=http://www.mdsf.org/Television/Television.html&amp;h=200&amp;w=300&amp;sz=11&amp;hl=fr&amp;start=29&amp;tbnid=SAVOnOZasGBToM:&amp;tbnh=77&amp;tbnw=116&amp;prev=/images%3Fq%3Darte%2Btelevision%26start%3D20%26ndsp%3D20%26svnum%3D10%26hl%3Dfr%26lr%3D%26safe%3Doff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6.fr/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images.google.fr/imgres?imgurl=http://www.mdsf.org/Television/files/page35_6.gif&amp;imgrefurl=http://www.mdsf.org/Television/Television.html&amp;h=200&amp;w=300&amp;sz=4&amp;hl=fr&amp;start=14&amp;tbnid=Teq-1mQr18tD3M:&amp;tbnh=77&amp;tbnw=116&amp;prev=/images%3Fq%3DM6%2Btelevision%26svnum%3D10%26hl%3Dfr%26lr%3D%26safe%3Doff%26sa%3D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media.canal-plus.com/image/72/8/45728.gif&amp;imgrefurl=http://www.canalplus.fr/pid5.htm&amp;h=146&amp;w=195&amp;sz=6&amp;hl=fr&amp;start=9&amp;tbnid=E-v2mtuPlReo6M:&amp;tbnh=78&amp;tbnw=104&amp;prev=/images%3Fq%3DCanal%2Bplus%26svnum%3D10%26hl%3Dfr%26lr%3D%26safe%3Doff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Télévision en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.P.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pon Grammar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élé satellite et câbl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alsatel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nnement mensuel nécess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NT (Télévision Numérique Terrest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ics_big_strong_dish"/>
          <p:cNvPicPr/>
          <p:nvPr/>
        </p:nvPicPr>
        <p:blipFill>
          <a:blip r:embed="rId1"/>
          <a:stretch/>
        </p:blipFill>
        <p:spPr>
          <a:xfrm>
            <a:off x="5076720" y="1341360"/>
            <a:ext cx="1584360" cy="131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logo-tnt"/>
          <p:cNvPicPr/>
          <p:nvPr/>
        </p:nvPicPr>
        <p:blipFill>
          <a:blip r:embed="rId2"/>
          <a:stretch/>
        </p:blipFill>
        <p:spPr>
          <a:xfrm>
            <a:off x="2987640" y="3645000"/>
            <a:ext cx="273672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venir de la télé en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peut déjà regarder certaines émissions sur demande su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télévision analogique n’existera plus après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-ce que la télévision traditionnelle existera dans 30 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télé haute définition deviendra la n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n’achètera que des téléviseurs plasma et L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cabulaire ut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 émission – programme                  en direct -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 série – ser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en différé -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 émission comique – comedy         une rediffusion - repea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 journal – TV new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un jeu – game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météo – weather                              animé par – presen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publicité (la pub) – adverts               réalisé par – direc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magazine –talk show with audience and g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documentaire – docu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 sitcom – sitcom (par exemple Frie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dessin animé – cartoon                   un téléfilm – TV 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débat – discussion programme       un feuilleton – soap op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reality-show – reality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chaîne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haînes terrestres (hertzien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F1  - chaîne privé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2 – chaîne publ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3 – chaîne publ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5 – chaîne publ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te – chaîne privée franco-allem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6 – chaîne p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278136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F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chaîne la plus regard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ée par la public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ertissements de toutes so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s pop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é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645000"/>
            <a:ext cx="26640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îne publique financées par la redevance et la public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ertissements de toutes so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orts vari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é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s pop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_f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4149720"/>
            <a:ext cx="319248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îne publique financée par la redevance et la public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issions plus cultur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issions ré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s nationales et ré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s plus cultu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ertis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ogo_f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4724280"/>
            <a:ext cx="29764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îne publique avec une mission éduc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issions éducatives et cultur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issions pour l’éc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usée le jour seu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Aller a la home de France 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4724280"/>
            <a:ext cx="34081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îne franco-allem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usée le soir seu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issions culturelles pour un public li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éb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cument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ts de musique class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èces de théâ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5164,property=dat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2190960" cy="51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page35_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1700280"/>
            <a:ext cx="14414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6 = Métro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issions populaires pour un public je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éries américaines doubl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s pop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cument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212400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page3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4292640"/>
            <a:ext cx="2232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nal 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îne privée qui demande un abonnement mens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coup de s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coup de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s réc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écodeur nécess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457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2781360"/>
            <a:ext cx="23767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8:59:31Z</dcterms:created>
  <dc:creator>Smith</dc:creator>
  <dc:description/>
  <dc:language>en-US</dc:language>
  <cp:lastModifiedBy>Nicolas</cp:lastModifiedBy>
  <dcterms:modified xsi:type="dcterms:W3CDTF">2010-03-09T23:25:30Z</dcterms:modified>
  <cp:revision>6</cp:revision>
  <dc:subject/>
  <dc:title>La Télévision en France</dc:title>
</cp:coreProperties>
</file>